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A6B-E6B2-4C58-AA20-38590040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19A-31A2-49E8-A6E2-7902732C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6F6-DCDB-46A3-8C71-A4C943AF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C8C-5660-46F2-8F95-18E0AF0F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588A-EDAD-46A7-9E3A-0987EDFD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D2ADF-E4E4-48BF-BC99-A7C9C01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DD28F-4F72-4E08-BAEF-D301D45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0916-CC5D-492D-9DB2-5D342A4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911D-51BC-4D64-A3B5-058EFF4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4841-4587-41DB-86A6-7CFE6C2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6C442-C762-4481-90F8-A97F7A8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D33-0867-4881-9BB4-84E445F1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018A-1D83-4022-903F-D1E6CCA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4792-003A-4E47-8C0F-49ED680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8FC6F-EEF4-4E04-9FFF-AA8C039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EE3B4-22B8-48E0-B632-DC31B6AA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3D5A8-4271-4EA0-BE1E-A281D2A8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BE4-BE80-4EC0-BF3A-0FF38510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629-B1AA-44DF-A43D-8159ED7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6BF-87F7-4D03-8DCD-AA13C14E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6B1-C507-4B24-86CF-70EC16B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78C-CF78-47B3-B23D-5EDBF6B0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32E-DE99-4F2E-A6DB-EC516E3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06F-B2F9-4C27-9768-46977F2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74A-D43A-439A-927A-343CBF788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3C1-D3F2-4C78-B059-1539EEAC4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(Pages 18-25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4800600" cy="6856560"/>
            <a:chOff x="0" y="0"/>
            <a:chExt cx="4800600" cy="6856560"/>
          </a:xfrm>
        </p:grpSpPr>
        <p:pic>
          <p:nvPicPr>
            <p:cNvPr id="12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44840" y="62809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520" y="63460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3428640" y="31240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50532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:1-1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nes for the Monument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into Cana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0-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9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5228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- 1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- 1:10-18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 2:1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886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191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4800600" cy="6877080"/>
            <a:chOff x="0" y="0"/>
            <a:chExt cx="4800600" cy="687708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43040" y="630144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520" y="636660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4952880" y="457200"/>
            <a:ext cx="403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1219320"/>
            <a:ext cx="3276720" cy="2819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52480" y="3048120"/>
            <a:ext cx="12193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581280"/>
            <a:ext cx="6858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124080"/>
            <a:ext cx="3733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gs of the Amorites and Canaanites feared Israel – 5: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 circumcision – 5:2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Futura XBlk B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their new leader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spied out the land (Jericho)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crossed the Jordan River on dry la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made the memorials for future generation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ncamped at Gilga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now equal to Moses in their sigh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men were circumcised to roll away the reproach of Egyp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observed the Passover to celebrate the 40 years (to the night) since the firstborn of Israel were save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aten of the produce of the land of Canaa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God stopped the manna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was standing on holy grou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are now in the mist of their enemie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4800600" cy="6842160"/>
            <a:chOff x="0" y="0"/>
            <a:chExt cx="4800600" cy="6842160"/>
          </a:xfrm>
        </p:grpSpPr>
        <p:pic>
          <p:nvPicPr>
            <p:cNvPr id="15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444840" y="62665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520" y="63316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581280"/>
            <a:ext cx="4572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98108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5:13 – 6: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35268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09T14:15:56Z</dcterms:modified>
  <cp:revision>15</cp:revision>
  <dc:subject/>
  <dc:title>Joshua: The New Leader</dc:title>
</cp:coreProperties>
</file>